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646E-02E7-49B6-A182-CF5F3ACFE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CC94-53A4-481B-A68C-2A29C6E3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A383-E330-4820-A20B-4B4C57FB4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7F7A-7EA0-437C-93EE-5CE3B98B6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8FA6-AE0A-4357-AAE8-26252E32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A582-97AF-4C0D-AFEE-36B330CB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FEFC-D262-414A-A46E-B3CF5B0E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BBF6-2750-4FB8-8F28-71F7BB62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9DC1-4D7B-410F-9930-3048EE53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AF56-9206-48A2-931B-C3BB767F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9DF8-4E39-4713-86ED-91C029F3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C5AA-0319-487B-8820-3F385321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21AF-9CDA-4B2A-8AC3-FD1342630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hyperlink" Target="http://web.mit.edu/invent/iow/johnson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81680" y="4978440"/>
            <a:ext cx="23623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day, January 07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#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533520"/>
            <a:ext cx="83822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up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81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oak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81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91520" y="1447920"/>
            <a:ext cx="1427040" cy="1665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666880" y="4648320"/>
            <a:ext cx="3230640" cy="1501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85800" y="1676520"/>
            <a:ext cx="229392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81240" cy="3276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Lonnie"/>
          <p:cNvPicPr/>
          <p:nvPr/>
        </p:nvPicPr>
        <p:blipFill>
          <a:blip r:embed="rId2"/>
          <a:stretch/>
        </p:blipFill>
        <p:spPr>
          <a:xfrm>
            <a:off x="5394240" y="0"/>
            <a:ext cx="3749760" cy="4952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5803920"/>
            <a:ext cx="87631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melson-mit program,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Lonnie Johnson, January 14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johns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Super Soak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ots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Lonnie John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’s been inventing for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on an inventing competition in high sch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n an award in nuclear enginee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in the Air for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trained to be an astrona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helped with the mars r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invented a lot at his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has his own compan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8:31:28Z</dcterms:created>
  <dc:creator>install</dc:creator>
  <dc:description/>
  <dc:language>en-US</dc:language>
  <cp:lastModifiedBy>install</cp:lastModifiedBy>
  <dcterms:modified xsi:type="dcterms:W3CDTF">2011-01-14T17:11:56Z</dcterms:modified>
  <cp:revision>7</cp:revision>
  <dc:subject/>
  <dc:title>Slide 1</dc:title>
</cp:coreProperties>
</file>